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CFEC-DC41-4B07-A5D9-47CEF3F8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5E85-C8E1-4804-9938-EF59EA2B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FCCA-3F7A-480F-81A4-23AF97E1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1233-C748-4102-B2FE-D2BB16D8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3BB2-1A44-4667-B81C-AF8D1FB0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3785-453D-45AB-BBE9-4703DB14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BE2D-7781-4C27-9EEB-658CF92A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5FB9-990D-4F8F-81B2-01B3CB47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0529-FD6F-46CB-8B53-DC557A0B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CC30-2FD9-4D21-B02C-18AA57BC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1F46-F745-4078-A337-1BB376AE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8C37-B2CD-4C4D-BB89-8E040BCE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5631-E36E-46F9-8DA2-BB3FDB814B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Bivariate Data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"/>
              </a:rPr>
              <a:t>2G Calculating r and the coefficient of determination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Limitations for using r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e can only use r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if we know the relationship between two variables is linear in form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If we know there are no outliers. Outliers skew or bias the calculation of r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refore,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ALWAYS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draw a scatterplot before calculating r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Calculating r using CAS calculator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, Ex 2G, Q.1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Coefficient of Determination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This is given by r</a:t>
            </a:r>
            <a:r>
              <a:rPr b="0" lang="en-AU" sz="30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. The value ranges from 0 to 1.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Why do we bother calculating r</a:t>
            </a:r>
            <a:r>
              <a:rPr b="0" lang="en-AU" sz="30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"/>
              </a:rPr>
              <a:t>The coefficient of determination tells us the proportion of variation in one variable which can be explained by the variation in the other variable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"/>
              </a:rPr>
              <a:t>r</a:t>
            </a:r>
            <a:r>
              <a:rPr b="0" lang="en-AU" sz="26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AU" sz="2600" spc="-1" strike="noStrike">
                <a:solidFill>
                  <a:srgbClr val="000000"/>
                </a:solidFill>
                <a:latin typeface="Cambria"/>
              </a:rPr>
              <a:t> provides a measure of how well the linear rule linking the two variables predicts the value of one when we are given the value of the other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 Ex 2G, Q.2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76% of the variation in visits to the doctor can be explained by the variation in the number of cigarettes smoked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Phrase your answer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EXACTLY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like this to get full mark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For you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 2G, Q. 3, 5, 6, 7, 8, 9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06:26:36Z</dcterms:created>
  <dc:creator>08843474</dc:creator>
  <dc:description/>
  <dc:language>en-US</dc:language>
  <cp:lastModifiedBy>08843474</cp:lastModifiedBy>
  <dcterms:modified xsi:type="dcterms:W3CDTF">2011-02-12T06:48:13Z</dcterms:modified>
  <cp:revision>4</cp:revision>
  <dc:subject/>
  <dc:title>Bivariate Data</dc:title>
</cp:coreProperties>
</file>